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25D-EB44-465D-8CD8-4BBB300095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FDF8-53F3-4A75-A22D-FF8C5CA2DF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ation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fFeatu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cause a class can have static features (attributes/oper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is enables reading/writing values of these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DAC-3A3B-4044-A652-5617F5B19C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DB33-56B3-4385-AFA5-FF5A05799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C4E3-304B-4ED6-A51B-95D16DD5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DC67-644B-47AE-9ED1-47F59CA37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2789-941E-4878-9407-A7BB4D124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52DD-1060-44B3-9DBF-457943E91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3E90-3433-48A0-9D9D-1EB28C96A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4EA0-2592-4584-A91D-A413D7591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1CF2-1A21-43FF-8007-CDBB3C4B4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668C-3F4A-48E1-873B-212A88A42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A95-3D0A-4FB3-9884-CCE46C7E4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5E98-D831-48DC-8DA8-BA6F00922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6F9F-2137-473C-84D2-BD67936D6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Java Metadat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C4419B8C-B4E4-4AAD-8DCB-7064CA62B63C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LIP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presentation of J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Java Metadat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LIP6, Laboratoire d'Informatique de Paris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8, rue du Capitaine Sco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75015 Paris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-src.lip6.fr/homepages/Marie-Pierre.Gerv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LIP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4400" y="6199200"/>
            <a:ext cx="669960" cy="65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7EE8-4DC0-4BD1-94BC-6FB8F7558C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BaseObje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any element (of a model or of a metamodel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MetaObject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per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turns the metaclass of the elemen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ype of the metaclass 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Objec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(inherits from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nables the navigation to the meta levels for discovering the structure of mode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8033-C5B0-409E-A05C-C136EC1A6A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Featured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ffers operations to access the element properties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ttribute, reference, oper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GetValue()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nd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SetValue()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perations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ad and Write the property valu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gnatures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void refSetValue(String propName, Object propValue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Object refGetValue(String propName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put paramete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pNam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: a string identifying the property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6198-32B3-4670-A9A6-4DF981149D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Clas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RefFeatur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element fac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nables to build instances of a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re is a 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Ref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per a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 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refCreateInstance()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reation of an instance of a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2588-7EF1-4769-BD30-03F3540C5F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Obje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Featured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an element that is an instance of a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IsInstance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heck whether this element is the instance of a given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50FB-E4EF-49E1-AA34-DBBD2508DE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Associ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links between elements (i.e.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Object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AddLink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RemoveLink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dd and Remove links between elemen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4D50-F07E-4685-8100-A7F61A1D9E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Packag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package (container of metaclasses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GetClass()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List of the metaclasses (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Clas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) contained in the pack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62B4-8727-4641-B0DA-27EA25EDEB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 : the Use Case Diagram (UC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Construction of a model M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(instance of a metamodel)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F01B-E058-4F1C-AF2B-80F7B6BC43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080" y="152280"/>
            <a:ext cx="6819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UCD metamodel and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952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 model M compliant to U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29520" y="267192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e UCD meta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57400" y="1096920"/>
            <a:ext cx="5943600" cy="5761080"/>
            <a:chOff x="2057400" y="1096920"/>
            <a:chExt cx="5943600" cy="5761080"/>
          </a:xfrm>
        </p:grpSpPr>
        <p:grpSp>
          <p:nvGrpSpPr>
            <p:cNvPr id="120" name=""/>
            <p:cNvGrpSpPr/>
            <p:nvPr/>
          </p:nvGrpSpPr>
          <p:grpSpPr>
            <a:xfrm>
              <a:off x="2057400" y="1096920"/>
              <a:ext cx="5943600" cy="5761080"/>
              <a:chOff x="2057400" y="1096920"/>
              <a:chExt cx="5943600" cy="5761080"/>
            </a:xfrm>
          </p:grpSpPr>
          <p:graphicFrame>
            <p:nvGraphicFramePr>
              <p:cNvPr id="121" name=""/>
              <p:cNvGraphicFramePr/>
              <p:nvPr/>
            </p:nvGraphicFramePr>
            <p:xfrm>
              <a:off x="2627280" y="1096920"/>
              <a:ext cx="5303880" cy="5761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27280" y="1096920"/>
                        <a:ext cx="5303880" cy="576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"/>
              <p:cNvSpPr/>
              <p:nvPr/>
            </p:nvSpPr>
            <p:spPr>
              <a:xfrm>
                <a:off x="2057400" y="4419720"/>
                <a:ext cx="594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2665440"/>
                <a:ext cx="8244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127200" y="23065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304F-D229-4BF9-BF3F-41D2420358D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With the reflective interfaces (without generating the metamodel-specific API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Writing the program that creates the model by using directly the operations of the reflective interfac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Need the implementation of the reflective interfaces (such as ModFact*,  MDR*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ootstrapping application (i.e. obtaining the instance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fPackag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: implementation-specific mechanis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See references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5D59-68E2-458E-9623-47080A026C1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] RefPackage p = //proprietary mechanism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2] RefObject act =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Actor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3] act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nam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lient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4] RefObject ca1 = 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UseCas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5] ca1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titl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Order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6] RefObject ca2 = 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 UseCas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7]ca2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titl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Validation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8]Collection col = (Collection) act.refG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articipat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9]col.add(ca1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0]col.add(ca2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1]RefObject sys = 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System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2]sys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nam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etStor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3]Collection cas = (Collection) sys.refG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s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4]cas.add(ca1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5]cas.add(ca2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5025-E00E-4F10-BE09-2C226D5E86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ModelWare European  IST FP6 project (http://www.modelware-ist.org/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ODELWARE project (Modelling solution for software systems) brings together 19 partners from Europe and Israel. Its main objectives are to develop a solution to reduce the cost of software systems large-scale deployment by the means of  Model Driven Development techniqu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s of large-scale dissemination of MDD techniques, ModelWare is also promoting the idea of collaborative development of courseware in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c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6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EB03-6C0C-4FA4-BC4B-BDF107EB51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Tailored Interfa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Offer dedicated operations for handling models that are instances of a particular metamodel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Example : operations for handling UCD models (instances of the UCD metamodel)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F872-BB1F-4B87-9027-9B148E4817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avig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tailored interfaces generated for the UCD metamodel enable, for each UCD model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number of actors, use cases, system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name of an actor (of a use case, of a system) and to modify i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inheritance links between actors and to modify the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use cases in which an actor participates and to modify the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add/remove a use ca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1540-6EB8-40AE-913A-0F654280089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Generation 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JMI1.0 defines the taylored interfaces generation from MOF1.4 metamodels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Presentation 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aclass Ru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a-association Ru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apackage Ru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DD67-6E03-439F-81FE-23DBD1AEE4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metaclass Ru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r a metaclass of a metamodel :</a:t>
            </a:r>
            <a:br>
              <a:rPr sz="2500"/>
            </a:b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WO interfa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Instanc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ffers the operations to read/modify the instances of the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Factory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ffers the operations to create the instances of the metaclass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3EC8-2E04-4B02-B128-264D6717A07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Instance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s name = name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get/set operations for each meta-attribute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. Setting the name of an Actor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operations of navigation for each metareference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. Navigating from a UseCase to an Actor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the reflective interfac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Objec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D5F8-FF6F-4388-8A13-840ADE99637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Factory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s name :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ame_metaclassClas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operations to create instances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. Creating instances of Actor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the reflective interfac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Clas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D41E-F1EA-4995-97B0-24555BDEF0B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Meta-association Ru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For a meta-association of a metamodel : </a:t>
            </a:r>
            <a:br>
              <a:rPr sz="2100"/>
            </a:b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NE interface (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Meta-association interfac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s name = name of the meta-associ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ffers the operations to create links between the instances of metaclasses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. Linking the instances I1 and I2 with the meta-association A1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ffers the operations to navigate through the link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. Obtaining I2 from I1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pecialization of the reflective interface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Associ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283E-2C5A-4273-8CC6-D025A5E7A5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Metapackage Ru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For a package of a metamodel : 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NE interface (</a:t>
            </a:r>
            <a:r>
              <a:rPr b="0" i="1" lang="en-US" sz="1900" spc="-1" strike="noStrike">
                <a:solidFill>
                  <a:srgbClr val="000066"/>
                </a:solidFill>
                <a:latin typeface="Comic Sans MS"/>
              </a:rPr>
              <a:t>Packag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 interfac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Its name = package name + suffix "</a:t>
            </a:r>
            <a:r>
              <a:rPr b="0" lang="en-US" sz="1900" spc="-1" strike="noStrike">
                <a:solidFill>
                  <a:srgbClr val="000066"/>
                </a:solidFill>
                <a:latin typeface="Courier New"/>
              </a:rPr>
              <a:t>Packag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"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. "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c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" + "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ackag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" </a:t>
            </a: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cdPacka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ffers the operations enabling to get all the </a:t>
            </a:r>
            <a:r>
              <a:rPr b="0" i="1" lang="en-US" sz="1900" spc="-1" strike="noStrike">
                <a:solidFill>
                  <a:srgbClr val="000066"/>
                </a:solidFill>
                <a:latin typeface="Comic Sans MS"/>
              </a:rPr>
              <a:t>Factory interfaces 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f the metaclasses in this metapackag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Ex. Getting Factories for the metaclasse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ffers the operations enabling to get all the </a:t>
            </a:r>
            <a:r>
              <a:rPr b="0" i="1" lang="en-US" sz="1900" spc="-1" strike="noStrike">
                <a:solidFill>
                  <a:srgbClr val="000066"/>
                </a:solidFill>
                <a:latin typeface="Comic Sans MS"/>
              </a:rPr>
              <a:t>Meta-association interfac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 of this metapackag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Ex. Getting Assocation interfaces for the meta-association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", 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exten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"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pecialization of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 reflective interface </a:t>
            </a:r>
            <a:r>
              <a:rPr b="0" lang="en-US" sz="1900" spc="-1" strike="noStrike">
                <a:solidFill>
                  <a:srgbClr val="000066"/>
                </a:solidFill>
                <a:latin typeface="Courier New"/>
              </a:rPr>
              <a:t>RefPackag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A839-BA49-4A67-9D11-FBF5A5CAA00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the Use Case Diagram (UC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Generation of the tailored interfaces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FF7A-BBAD-4702-9E4A-8D1225B5928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ist (1): Results of Metaclass Rule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or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Instance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s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Participate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orClass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Factory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reateActor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Instance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s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UseCase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Class.java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Factory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reateSystem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Case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Instance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s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Titl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Titl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Includ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Extend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CaseClass.java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Factory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reateUseCase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3659-BBFD-450D-ABBC-D56CA012691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Outl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Overview of the standar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JMI interfaces categori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reflective interfa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Translation rul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n exemple :  the Use Case Diagra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tailored interfa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Translation rul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n exemple : the Use Case Diagra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51EC-BEA5-4988-A4A9-C89AF958BCF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ist (2) : Results of Meta-association Rule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UseCaseSystem.java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between the metaclasse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InheritActor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on the metaclas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n Actor inherits another Actor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articipateActor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between  the metaclasse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 Cas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e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n Actor participates in a UseCas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IncludeUseCase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on the metaclas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 Cas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 UseCase includes another UseCas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ExtendUseCase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on the metaclas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 Cas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 UseCase extends another UseCas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B1D6-435B-4F62-BB16-6CFE9DDD5F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ist (3) : Result of Metapackage Rule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cdPackage.jav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Generated from the metapackage containing all these metaclasses and meta-association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as the following operations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Getting all Factory interfaces: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SystemClass getSystem(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CaseClass getUseCase(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ActorClass getActor(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Getting all Meta-association interfaces: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seCaseSystem getAUseCaseSystem();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InheriteActor getAInheriteActor();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..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5953-B9E0-488A-87A9-294AF69C00D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]UcdPackage extent = //proprietary mechanism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2]System sys = extent.getSystem().createSystem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etStor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3]Actor ac = extent.getActor().createActor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lient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4]UseCase ca = extent.getUseCase ().createUseCase 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Order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5]UseCase ca2 = extent.getUseCase() .createUseCas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Validation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6]ac.getParticipate().add(ca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7]ac.getParticipate().add(ca2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8]sys.getUseCase().add(ca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9]sys.getUseCase().add(ca2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B7E6-E063-4943-ADC3-1D79861314E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Referen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White Paper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http://java.sun.com/products/jmi/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Download JM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http://java.sun.com/products/jmi/download.htm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http://packages.debian.org/unstable/libs/libgnujmi-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Reposi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mdr.netbeans.org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modfact.lip6.f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E264-118B-4475-8CEB-02EEBE17EA84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tiona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odel is an abstract entity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odel is structured by its 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etamodel is an abstract entit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etamodel is structured by M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F is an abstract entity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o handle (meta*)models, they need to be represented in an electronic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4169-CE5E-4BE4-9E9C-35050CF9DD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Java Model Interface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d by JCP (Java Community Proces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nable to represent models in the form of Java objec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s rules enabling to build Java interfaces from a 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JMI1.0 (final release, 28 June 2002) applies to MOF1.4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41FC-549B-4C8B-A8B4-C5E2960686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JMI: princi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4000" y="2708280"/>
            <a:ext cx="934920" cy="719280"/>
            <a:chOff x="2124000" y="2708280"/>
            <a:chExt cx="934920" cy="719280"/>
          </a:xfrm>
        </p:grpSpPr>
        <p:sp>
          <p:nvSpPr>
            <p:cNvPr id="65" name=""/>
            <p:cNvSpPr/>
            <p:nvPr/>
          </p:nvSpPr>
          <p:spPr>
            <a:xfrm>
              <a:off x="2124000" y="2851200"/>
              <a:ext cx="93492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4000" y="2708280"/>
              <a:ext cx="36036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05080" y="4438800"/>
            <a:ext cx="934920" cy="718560"/>
            <a:chOff x="1405080" y="4438800"/>
            <a:chExt cx="934920" cy="718560"/>
          </a:xfrm>
        </p:grpSpPr>
        <p:sp>
          <p:nvSpPr>
            <p:cNvPr id="68" name=""/>
            <p:cNvSpPr/>
            <p:nvPr/>
          </p:nvSpPr>
          <p:spPr>
            <a:xfrm>
              <a:off x="1405080" y="4581360"/>
              <a:ext cx="93492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5080" y="4438800"/>
              <a:ext cx="360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08000" y="4726080"/>
            <a:ext cx="934920" cy="718560"/>
            <a:chOff x="1908000" y="4726080"/>
            <a:chExt cx="934920" cy="718560"/>
          </a:xfrm>
        </p:grpSpPr>
        <p:sp>
          <p:nvSpPr>
            <p:cNvPr id="71" name=""/>
            <p:cNvSpPr/>
            <p:nvPr/>
          </p:nvSpPr>
          <p:spPr>
            <a:xfrm>
              <a:off x="1908000" y="4868640"/>
              <a:ext cx="93492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4726080"/>
              <a:ext cx="360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57440" y="5014800"/>
            <a:ext cx="934920" cy="719280"/>
            <a:chOff x="2557440" y="5014800"/>
            <a:chExt cx="934920" cy="719280"/>
          </a:xfrm>
        </p:grpSpPr>
        <p:sp>
          <p:nvSpPr>
            <p:cNvPr id="74" name=""/>
            <p:cNvSpPr/>
            <p:nvPr/>
          </p:nvSpPr>
          <p:spPr>
            <a:xfrm>
              <a:off x="2557440" y="5157720"/>
              <a:ext cx="9349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57440" y="5014800"/>
              <a:ext cx="360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427640" y="2205000"/>
            <a:ext cx="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005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940360" y="2564640"/>
            <a:ext cx="647640" cy="934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3433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ta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9200" y="5305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42800" y="33624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ava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8400" y="53053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ava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92720" y="4437000"/>
            <a:ext cx="647640" cy="935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796000" y="4724280"/>
            <a:ext cx="647640" cy="935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00720" y="5012640"/>
            <a:ext cx="647640" cy="934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79280" y="371628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84000" y="3716280"/>
            <a:ext cx="71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3716280"/>
            <a:ext cx="288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24360" y="357336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156000" y="3573360"/>
            <a:ext cx="14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3573360"/>
            <a:ext cx="142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472428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292428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F042-C883-46F0-92E1-1010341688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JM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Java API for handling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terfaces providing operations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velop a CASE tool for handling a model = develop a program using (invoking) the AP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55C1-636B-4353-A196-018E90C626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JMI Interfa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wo categori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flectiv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ovides means to dynamically discover information on a model element (i.e., access to its meta-class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able for all types of mod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dependent from the meta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A model is a set of linked model elements, instances of meta-classes </a:t>
            </a:r>
            <a:endParaRPr b="0" lang="en-US" sz="12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ilor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edicated to a type of models (models that are instances of the same meta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epending on the structure of this type of models (i.e., depending on the meta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637C-B6FB-4660-B6D0-510D58728F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Reflective Interfa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15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49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138320"/>
          <a:ext cx="705636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38320"/>
                    <a:ext cx="705636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C8F8-25DA-4FBC-B75B-2D2186A418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cp:lastPrinted>2006-01-26T14:25:31Z</cp:lastPrinted>
  <dcterms:modified xsi:type="dcterms:W3CDTF">2006-07-17T11:37:09Z</dcterms:modified>
  <cp:revision>920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